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9309-72F3-48E6-91B6-EAEE57964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0EE2-773F-4EFB-8FA3-49754B264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787B-152E-4569-9879-E8F7B4CF4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028C-BA61-44CC-BEAC-14CABB817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ED528-6E21-4934-945C-12CC085EF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756C7-A4E7-4518-8FB0-E17073FD3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0DE64-A098-4881-9E6C-CE40DBDD6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06279-BBF1-4FFF-B23A-62D90A307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B4CE2-CDEE-423C-9E5E-B2180A45B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E1286-22F0-4E90-9D64-1E459F5D5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3F346-FD89-49B5-897C-01738E05F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C0ED-33B2-4887-B476-111708E5B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5A90D-9070-4E82-8B9C-4E6444119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96978-F737-440A-9B40-4D7724D4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4D6A9-F9E6-469C-A2EF-43555324D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1008D-B02C-4ABF-9DA8-6DBA9343A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3E13A-1819-4B89-8594-FB31E07E7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993FE-DF11-4BBE-833C-4C7A76E9B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67992-72B0-4DC1-BCD8-AAC9D3BC3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B6805-6246-41D8-B076-D1E9592BF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C3635-E395-4A8E-90EC-497F11BA8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9359F-F33E-4C76-8F19-06C4E7CD9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2E6D-7A85-42E0-B688-A32DD34C0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1B7F6-9073-4349-BAEA-BBEEEB1AB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4D80F-E368-40E8-BAF8-96BACDC2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C4CAD-9E62-4451-8017-7DF27CC29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4C21B-8D1E-490B-BE65-2BBF1A9AB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54727-2626-4FA1-841A-45F056903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4C4BE-AA69-4F5D-BAD1-7478C6AEA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2EBD7-FBDB-4D4F-919F-0471006FF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836BD-45D7-40B1-95EB-7ECCFF6A7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6416F-1C89-4EAE-8F45-245A55A2B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EE428-9931-4CE5-810A-69407E56B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9305-69A1-41D1-ADB5-546C7FC26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34591-59C3-4464-A660-2504A8430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2613E-F07B-4EC6-A3D3-61FEBF7EA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B1B9A-6BE3-4E78-8526-4F29BC085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50758-7580-4405-8E55-5F2537428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DE2E5-5F31-476F-A21C-D0B26E6CB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6045C-D136-45F0-AB99-CA5BAB8D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136A0-FBB5-4B9A-A4E2-A69ABE492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B4B78-4149-436A-A09E-4530D39FA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A1290-B726-4F1D-942E-E04EC4A16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C8F4A-3DF5-41D4-BEB5-8F977CA63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304E-2576-4302-A168-1EA7D82B7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6E4FD9-7917-49B6-95D5-ED73F5693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FD120C-7985-4074-9C1F-A31C4D1B9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4E8808-7AAB-4869-A342-19A57FAC0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37F397-8066-4D50-B7DD-917929F15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2F808D-2820-4BD2-A203-150DC9257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CFA71-0101-4AB9-B921-10C36797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1BD28-AEEB-43EC-B57D-20212714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EEE8B3-01DB-4721-9121-7651A643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0287FC-9981-4BDB-BD30-69CE7F8FE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891DF5-481F-4506-87E1-86F61BD35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9B9B-969A-44A0-83B9-2CEA081BF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F14E7-C02C-488C-9623-720FAFCAB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ED3285-029E-4865-8C8D-91320E3DD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7FA2F-01E4-4FA5-BDC4-E3CD62815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4630CA-EDB0-4A51-96D1-63AD21124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33B111-9AFC-4F29-8E00-68DC89B9F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75D200-A40A-40D7-A447-9BCC85624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D21377-F545-4513-AE77-4A47B8BAA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0C8C15-4589-4A59-85CA-745E95C0B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6BB59E-16E1-4698-BED4-E6382001F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92124D-7AD1-46C0-8DA0-C0C51162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AF4A-E960-4046-8D17-00C436F0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7ED3ED-D23A-4493-A6DF-68F244C17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6F49DF-AA30-4F3B-AC00-20707B4F4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DC1DD1-E694-4031-9184-BFDE9BC43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EFACE1-4E58-4548-A6CD-76610DB55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F4383C-4682-4B96-AB79-4CFBEE696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FE8A33-A8DD-4ECC-AB01-6CC520B22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EC5840-7B54-4CC0-96CD-EC6FDBEA6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F45F5C-6D5A-4A8E-B587-AC9505DCA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809E57-AA72-4041-92DF-E983C0062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BB96C4-71C2-410D-8154-D80219562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434F-6817-404B-993E-56FC41670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A0CC79-4821-4E1B-AC1A-3FFEA6150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358AFC-D785-4AF3-A5A7-01D4A42C7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A68359-E843-4089-AEA0-62EA46225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A4EBF5-D695-4267-9AC0-F4A2ECF49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0B87B6-AFCB-4923-A9A7-5C17F01AF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6586-6932-4D05-8EDD-DADEDD35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9"/>
          <p:cNvSpPr/>
          <p:nvPr/>
        </p:nvSpPr>
        <p:spPr>
          <a:xfrm>
            <a:off x="0" y="143496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bdélník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DD463-9589-4A89-8399-58D28B9E0B18}" type="datetime">
              <a:rPr b="0" lang="cs-CZ" sz="1200" spc="-1" strike="noStrike">
                <a:solidFill>
                  <a:srgbClr val="3f3f3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06969-9131-444A-B29C-31AF07AD6FA8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délník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délník 9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D4BC3-B194-4E88-A502-2C22370E1DAA}" type="datetime">
              <a:rPr b="0" lang="cs-CZ" sz="1200" spc="-1" strike="noStrike">
                <a:solidFill>
                  <a:srgbClr val="fffff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6F203-5969-45A3-860F-67B667E5B21D}" type="slidenum">
              <a:rPr b="0" lang="cs-CZ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Obdélník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bdélník 11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BB4B8-8573-42F4-9C32-DD4B99109448}" type="datetime">
              <a:rPr b="0" lang="cs-CZ" sz="1200" spc="-1" strike="noStrike">
                <a:solidFill>
                  <a:srgbClr val="fffff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522F7-1584-413C-B0F1-E42491535F40}" type="slidenum">
              <a:rPr b="0" lang="cs-CZ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B1A93-3480-49F0-8204-1AD5B3C2AEF3}" type="datetime">
              <a:rPr b="0" lang="cs-CZ" sz="1200" spc="-1" strike="noStrike">
                <a:solidFill>
                  <a:srgbClr val="3f3f3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CAD9A-1969-4436-A13F-BA4608E945A3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Obdélník 9"/>
          <p:cNvSpPr/>
          <p:nvPr/>
        </p:nvSpPr>
        <p:spPr>
          <a:xfrm>
            <a:off x="0" y="143496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bdélník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bdélník 11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bdélník 9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CCAB9-73D8-431A-B5F4-20C1D20C406D}" type="datetime">
              <a:rPr b="0" lang="cs-CZ" sz="1200" spc="-1" strike="noStrike">
                <a:solidFill>
                  <a:srgbClr val="3f3f3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4CF91-A5DA-4B52-BDF7-73505CF39FFE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Obdélník 9"/>
          <p:cNvSpPr/>
          <p:nvPr/>
        </p:nvSpPr>
        <p:spPr>
          <a:xfrm>
            <a:off x="0" y="143496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bdélník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bdélník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bdélník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011AE-BF2A-4B9C-A450-D133DF881D2C}" type="datetime">
              <a:rPr b="0" lang="cs-CZ" sz="1200" spc="-1" strike="noStrike">
                <a:solidFill>
                  <a:srgbClr val="3f3f3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39667-60EC-448C-AC66-8B3CBCDC2600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Obdélník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bdélník 7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7E27F-6DE2-4396-9AA8-0274AFC4437A}" type="datetime">
              <a:rPr b="0" lang="cs-CZ" sz="1200" spc="-1" strike="noStrike">
                <a:solidFill>
                  <a:srgbClr val="3f3f3f"/>
                </a:solidFill>
                <a:latin typeface="Corbe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0200E-9840-4621-8A16-101E719124BE}" type="slidenum">
              <a:rPr b="0" lang="cs-CZ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5373720"/>
            <a:ext cx="6193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7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324000" y="189000"/>
            <a:ext cx="8439120" cy="446400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lnSpc>
                <a:spcPct val="7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orbel"/>
              </a:rPr>
              <a:t>Název školy: </a:t>
            </a:r>
            <a:r>
              <a:rPr b="0" lang="cs-CZ" sz="2000" spc="-1" strike="noStrike">
                <a:solidFill>
                  <a:srgbClr val="ffffff"/>
                </a:solidFill>
                <a:latin typeface="Corbel"/>
              </a:rPr>
              <a:t>Střední zdravotnická škola a vyšší odborná škola zdravotnická Karlovy Vary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7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orbel"/>
              </a:rPr>
              <a:t>Číslo projektu: CZ.1.07/1.5.00/34.0953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7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7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zdělávací materiál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: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Arial Black"/>
              </a:rPr>
              <a:t>ÚVOD DO Kliniky nemocí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7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orbel"/>
              </a:rPr>
              <a:t>Šablona III/2 Inovace a zkvalitnění výuky prostřednictvím ICT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7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orbel"/>
              </a:rPr>
              <a:t>Název materiálu: </a:t>
            </a:r>
            <a:r>
              <a:rPr b="0" lang="cs-CZ" sz="2000" spc="-1" strike="noStrike">
                <a:solidFill>
                  <a:srgbClr val="ffffff"/>
                </a:solidFill>
                <a:latin typeface="Arial Black"/>
              </a:rPr>
              <a:t>VY_32_INOVACE_KLN.2.01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7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orbel"/>
              </a:rPr>
              <a:t>Datum tvorby: </a:t>
            </a:r>
            <a:r>
              <a:rPr b="0" lang="cs-CZ" sz="2000" spc="-1" strike="noStrike">
                <a:solidFill>
                  <a:srgbClr val="ffffff"/>
                </a:solidFill>
                <a:latin typeface="Arial Black"/>
              </a:rPr>
              <a:t>2.11.2013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7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orbel"/>
              </a:rPr>
              <a:t>Vyučovací předmět, ročník, obor: </a:t>
            </a:r>
            <a:r>
              <a:rPr b="0" lang="cs-CZ" sz="2000" spc="-1" strike="noStrike">
                <a:solidFill>
                  <a:srgbClr val="ffffff"/>
                </a:solidFill>
                <a:latin typeface="Arial Black"/>
              </a:rPr>
              <a:t>KLN, 2. ročník, Nutriční asistent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7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orbel"/>
              </a:rPr>
              <a:t>Autor:</a:t>
            </a: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cs-CZ" sz="2000" spc="-1" strike="noStrike">
                <a:solidFill>
                  <a:srgbClr val="ffffff"/>
                </a:solidFill>
                <a:latin typeface="Arial Black"/>
              </a:rPr>
              <a:t>Veronika </a:t>
            </a:r>
            <a:r>
              <a:rPr b="0" lang="cs-CZ" sz="2000" spc="-1" strike="noStrike">
                <a:solidFill>
                  <a:srgbClr val="ffffff"/>
                </a:solidFill>
                <a:latin typeface="Arial Black"/>
              </a:rPr>
              <a:t>Rausová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orbel"/>
              </a:rPr>
              <a:t>Anotace: </a:t>
            </a:r>
            <a:r>
              <a:rPr b="0" lang="cs-CZ" sz="2000" spc="-1" strike="noStrike">
                <a:solidFill>
                  <a:srgbClr val="ffffff"/>
                </a:solidFill>
                <a:latin typeface="Corbel"/>
              </a:rPr>
              <a:t>: </a:t>
            </a:r>
            <a:r>
              <a:rPr b="0" lang="cs-CZ" sz="1800" spc="-1" strike="noStrike">
                <a:solidFill>
                  <a:srgbClr val="ffffff"/>
                </a:solidFill>
                <a:latin typeface="Arial Black"/>
              </a:rPr>
              <a:t>Vzdělávací materiál je určen k podpoře výuky předmětu Klinika nemocí v rozsahu jednoho školního roku. Prezentace KLN.2.1 zahrnuje úvod do předmětu Klinika nemocí / patologie. Obsahuje přehled základního názvosloví a vymezení předmětu. Prezentace je zakončena sérií otázek k opakování</a:t>
            </a:r>
            <a:r>
              <a:rPr b="0" lang="cs-CZ" sz="20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5" name="Picture 4" descr=""/>
          <p:cNvPicPr/>
          <p:nvPr/>
        </p:nvPicPr>
        <p:blipFill>
          <a:blip r:embed="rId1"/>
          <a:stretch/>
        </p:blipFill>
        <p:spPr>
          <a:xfrm>
            <a:off x="900000" y="5373720"/>
            <a:ext cx="7201080" cy="12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A co je…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rbel"/>
              </a:rPr>
              <a:t>ETIOLOGIE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= nauka o příčinách a původu nemoci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rbel"/>
              </a:rPr>
              <a:t>PATOGENEZE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=nauka o mechanismech vzniku nemoci, sleduje vznik, průběh a zakončení nemoci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rbel"/>
              </a:rPr>
              <a:t>PROGNÓZA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= předpověď, jak bude choroba u konkrétního pacienta probíh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A ještě – co je…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rbel"/>
              </a:rPr>
              <a:t>TERAPIE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= léčba – může být kauzální (léčba příčiny onemocnění), symptomatická (léčba příznaků), nebo paliativní (tzv. útěšná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100" spc="-1" strike="noStrike">
                <a:solidFill>
                  <a:srgbClr val="ffc800"/>
                </a:solidFill>
                <a:latin typeface="Corbel"/>
              </a:rPr>
              <a:t>Patologie v praxi – vyšetření mrtvého těla</a:t>
            </a:r>
            <a:endParaRPr b="1" lang="en-US" sz="41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1000"/>
          </a:bodyPr>
          <a:p>
            <a:pPr marL="398520" indent="-2901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orbel"/>
              </a:rPr>
              <a:t>PITVA</a:t>
            </a:r>
            <a:r>
              <a:rPr b="0" lang="cs-CZ" sz="3000" spc="-1" strike="noStrike">
                <a:solidFill>
                  <a:srgbClr val="000000"/>
                </a:solidFill>
                <a:latin typeface="Corbel"/>
              </a:rPr>
              <a:t> – proč?, může s tím být nějaký problém?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orbel"/>
              </a:rPr>
              <a:t>(zdravotní, soudní, anatomická = výuková)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orbel"/>
              </a:rPr>
              <a:t>(= kompletní vyšetření těla + histologické + cytologické + bakteriologické + parazitologické + toxikologické vyšetření)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orbel"/>
              </a:rPr>
              <a:t>NEKROPSIE</a:t>
            </a:r>
            <a:r>
              <a:rPr b="0" lang="cs-CZ" sz="3000" spc="-1" strike="noStrike">
                <a:solidFill>
                  <a:srgbClr val="000000"/>
                </a:solidFill>
                <a:latin typeface="Corbel"/>
              </a:rPr>
              <a:t> – vyšetřování tkání z mrtvého těla – proč?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orbel"/>
              </a:rPr>
              <a:t>(potvrzení/vyvrácení stanovené dg., zpětná vazba ošetřujícímu lékaři, stanovení příčiny smrti…)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100" spc="-1" strike="noStrike">
                <a:solidFill>
                  <a:srgbClr val="ffc800"/>
                </a:solidFill>
                <a:latin typeface="Corbel"/>
              </a:rPr>
              <a:t>Patologie v praxi – vyšetření živého člověka</a:t>
            </a:r>
            <a:endParaRPr b="1" lang="en-US" sz="41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rbel"/>
              </a:rPr>
              <a:t>BIOPSIE - 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vyšetřování tkání ze živého člověka – proč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Cytologické vyšetření (buňky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Histologické vyšetření (tkáně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rbel"/>
              </a:rPr>
              <a:t>ODBĚR TKÁNÍ – JAK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při operaci, samovolné vyloučení, probatorní excize, punkce, kyretáž (výškrab), endoskopická exciz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100" spc="-1" strike="noStrike">
                <a:solidFill>
                  <a:srgbClr val="ffc800"/>
                </a:solidFill>
                <a:latin typeface="Corbel"/>
              </a:rPr>
              <a:t>Zpracování tkání určených k vyšetření</a:t>
            </a:r>
            <a:endParaRPr b="1" lang="en-US" sz="41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rbel"/>
              </a:rPr>
              <a:t>Vždy je nutné zabránit rozkladu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= chlad / fixac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rbel"/>
              </a:rPr>
              <a:t>Vyšetření makroskopické / mikroskopické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rbel"/>
              </a:rPr>
              <a:t>Další zpracování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= přikrojování, barvení preparátu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rbel"/>
              </a:rPr>
              <a:t>Odečítání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= patolog  popíše patologické změny, stanoví dg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Kontrolní otázky: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Jakými onemocněními trpí lidé? (příklady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Co je PATOLOGIE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Jaké jsou cíle PATOLOGIE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Proč se vyšetřují mrtvá těla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Proč se vyšetřují tkáně odebrané z živého těla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Zdroj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rbel"/>
              </a:rPr>
              <a:t>MAČÁK, Jiří a Jana MAČÁKOVÁ. </a:t>
            </a:r>
            <a:r>
              <a:rPr b="0" i="1" lang="cs-CZ" sz="1800" spc="-1" strike="noStrike">
                <a:solidFill>
                  <a:srgbClr val="000000"/>
                </a:solidFill>
                <a:latin typeface="Corbel"/>
              </a:rPr>
              <a:t>Patologie</a:t>
            </a:r>
            <a:r>
              <a:rPr b="0" lang="cs-CZ" sz="1800" spc="-1" strike="noStrike">
                <a:solidFill>
                  <a:srgbClr val="000000"/>
                </a:solidFill>
                <a:latin typeface="Corbel"/>
              </a:rPr>
              <a:t>. 1. vyd. Praha: Grada, 2004. ISBN 80-247-0785-3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rbel"/>
              </a:rPr>
              <a:t>STŘÍTESKÝ, Jan a Petr HALBERSTADT. </a:t>
            </a:r>
            <a:r>
              <a:rPr b="0" i="1" lang="cs-CZ" sz="1800" spc="-1" strike="noStrike">
                <a:solidFill>
                  <a:srgbClr val="000000"/>
                </a:solidFill>
                <a:latin typeface="Corbel"/>
              </a:rPr>
              <a:t>Patologie pro 2. ročník středních zdravotnických škol</a:t>
            </a:r>
            <a:r>
              <a:rPr b="0" lang="cs-CZ" sz="1800" spc="-1" strike="noStrike">
                <a:solidFill>
                  <a:srgbClr val="000000"/>
                </a:solidFill>
                <a:latin typeface="Corbel"/>
              </a:rPr>
              <a:t>. Vyd. 1. Praha: Scientia medica, 1995, 2 sv. ISBN 80-85526-44-11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440" y="3355920"/>
            <a:ext cx="8077320" cy="167328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700" spc="-1" strike="noStrike">
                <a:solidFill>
                  <a:srgbClr val="ffc800"/>
                </a:solidFill>
                <a:latin typeface="Corbel"/>
              </a:rPr>
              <a:t>KLN  = nauka o nemocech = patologie</a:t>
            </a:r>
            <a:endParaRPr b="1" lang="en-US" sz="47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600" spc="-1" strike="noStrike">
                <a:solidFill>
                  <a:srgbClr val="ffffff"/>
                </a:solidFill>
                <a:latin typeface="Corbel"/>
              </a:rPr>
              <a:t>1. Úvod do KLN</a:t>
            </a:r>
            <a:endParaRPr b="0" lang="en-US" sz="6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Co je patologie?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pathos (</a:t>
            </a:r>
            <a:r>
              <a:rPr b="0" lang="el-GR" sz="3200" spc="-1" strike="noStrike">
                <a:solidFill>
                  <a:srgbClr val="000000"/>
                </a:solidFill>
                <a:latin typeface="Corbel"/>
              </a:rPr>
              <a:t>πάθος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) = nemoc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logia (</a:t>
            </a:r>
            <a:r>
              <a:rPr b="0" lang="el-GR" sz="3200" spc="-1" strike="noStrike">
                <a:solidFill>
                  <a:srgbClr val="000000"/>
                </a:solidFill>
                <a:latin typeface="Corbel"/>
              </a:rPr>
              <a:t>λόγια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) = nauka, slov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Jak může být člověk nemocný?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pic>
        <p:nvPicPr>
          <p:cNvPr id="313" name="Picture 2" descr="File:Squamous Carcinoma of Cervix.jpg"/>
          <p:cNvPicPr/>
          <p:nvPr/>
        </p:nvPicPr>
        <p:blipFill>
          <a:blip r:embed="rId1"/>
          <a:stretch/>
        </p:blipFill>
        <p:spPr>
          <a:xfrm>
            <a:off x="611280" y="1557360"/>
            <a:ext cx="2016000" cy="3033720"/>
          </a:xfrm>
          <a:prstGeom prst="rect">
            <a:avLst/>
          </a:prstGeom>
          <a:ln w="0">
            <a:noFill/>
          </a:ln>
        </p:spPr>
      </p:pic>
      <p:sp>
        <p:nvSpPr>
          <p:cNvPr id="314" name="Obdélník 4"/>
          <p:cNvSpPr/>
          <p:nvPr/>
        </p:nvSpPr>
        <p:spPr>
          <a:xfrm>
            <a:off x="611280" y="4724280"/>
            <a:ext cx="2160360" cy="14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Karcinom děložního hrd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orbel"/>
              </a:rPr>
              <a:t>http://commons.wikimedia.org/wiki/File:Squamous_Carcinoma_of_Cervix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4" descr="File:Boy with Down Syndrome.JPG"/>
          <p:cNvPicPr/>
          <p:nvPr/>
        </p:nvPicPr>
        <p:blipFill>
          <a:blip r:embed="rId2"/>
          <a:stretch/>
        </p:blipFill>
        <p:spPr>
          <a:xfrm>
            <a:off x="3276720" y="2565360"/>
            <a:ext cx="2158920" cy="2879640"/>
          </a:xfrm>
          <a:prstGeom prst="rect">
            <a:avLst/>
          </a:prstGeom>
          <a:ln w="0">
            <a:noFill/>
          </a:ln>
        </p:spPr>
      </p:pic>
      <p:sp>
        <p:nvSpPr>
          <p:cNvPr id="316" name="Obdélník 6"/>
          <p:cNvSpPr/>
          <p:nvPr/>
        </p:nvSpPr>
        <p:spPr>
          <a:xfrm>
            <a:off x="3348000" y="5734080"/>
            <a:ext cx="230364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Downův synd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orbel"/>
              </a:rPr>
              <a:t>http://commons.wikimedia.org/wiki/File:Boy_with_Down_Syndrome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6" descr="Soubor:Akne-jugend.jpg"/>
          <p:cNvPicPr/>
          <p:nvPr/>
        </p:nvPicPr>
        <p:blipFill>
          <a:blip r:embed="rId3"/>
          <a:stretch/>
        </p:blipFill>
        <p:spPr>
          <a:xfrm>
            <a:off x="5724360" y="1844640"/>
            <a:ext cx="3062520" cy="2089080"/>
          </a:xfrm>
          <a:prstGeom prst="rect">
            <a:avLst/>
          </a:prstGeom>
          <a:ln w="0">
            <a:noFill/>
          </a:ln>
        </p:spPr>
      </p:pic>
      <p:sp>
        <p:nvSpPr>
          <p:cNvPr id="318" name="Obdélník 8"/>
          <p:cNvSpPr/>
          <p:nvPr/>
        </p:nvSpPr>
        <p:spPr>
          <a:xfrm>
            <a:off x="6084720" y="4292640"/>
            <a:ext cx="21592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Ak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orbel"/>
              </a:rPr>
              <a:t>http://commons.wikimedia.org/wiki/File:Akne-jugend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Atd. atd…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pic>
        <p:nvPicPr>
          <p:cNvPr id="320" name="Picture 2" descr="File:Aortic aneurysm.jpg"/>
          <p:cNvPicPr/>
          <p:nvPr/>
        </p:nvPicPr>
        <p:blipFill>
          <a:blip r:embed="rId1"/>
          <a:stretch/>
        </p:blipFill>
        <p:spPr>
          <a:xfrm>
            <a:off x="395280" y="1700280"/>
            <a:ext cx="2585880" cy="2644560"/>
          </a:xfrm>
          <a:prstGeom prst="rect">
            <a:avLst/>
          </a:prstGeom>
          <a:ln w="0">
            <a:noFill/>
          </a:ln>
        </p:spPr>
      </p:pic>
      <p:sp>
        <p:nvSpPr>
          <p:cNvPr id="321" name="Obdélník 3"/>
          <p:cNvSpPr/>
          <p:nvPr/>
        </p:nvSpPr>
        <p:spPr>
          <a:xfrm>
            <a:off x="684360" y="4508640"/>
            <a:ext cx="2232000" cy="14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Výduť na aort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orbel"/>
              </a:rPr>
              <a:t>http://commons.wikimedia.org/wiki/File:Aortic_aneurysm.jpg?uselang=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4" descr="Soubor:Nefrolit.jpg"/>
          <p:cNvPicPr/>
          <p:nvPr/>
        </p:nvPicPr>
        <p:blipFill>
          <a:blip r:embed="rId2"/>
          <a:stretch/>
        </p:blipFill>
        <p:spPr>
          <a:xfrm>
            <a:off x="3203640" y="3181320"/>
            <a:ext cx="2520720" cy="2754360"/>
          </a:xfrm>
          <a:prstGeom prst="rect">
            <a:avLst/>
          </a:prstGeom>
          <a:ln w="0">
            <a:noFill/>
          </a:ln>
        </p:spPr>
      </p:pic>
      <p:sp>
        <p:nvSpPr>
          <p:cNvPr id="323" name="Obdélník 5"/>
          <p:cNvSpPr/>
          <p:nvPr/>
        </p:nvSpPr>
        <p:spPr>
          <a:xfrm>
            <a:off x="3132000" y="1989000"/>
            <a:ext cx="259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Ledvinový ká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orbel"/>
              </a:rPr>
              <a:t>http://cs.wikipedia.org/wiki/Soubor:Nefrolit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6" descr="http://upload.wikimedia.org/wikipedia/commons/9/9c/Tuberculosis-x-ray-1.jpg"/>
          <p:cNvPicPr/>
          <p:nvPr/>
        </p:nvPicPr>
        <p:blipFill>
          <a:blip r:embed="rId3"/>
          <a:stretch/>
        </p:blipFill>
        <p:spPr>
          <a:xfrm>
            <a:off x="6012000" y="1844640"/>
            <a:ext cx="2695320" cy="2476440"/>
          </a:xfrm>
          <a:prstGeom prst="rect">
            <a:avLst/>
          </a:prstGeom>
          <a:ln w="0">
            <a:noFill/>
          </a:ln>
        </p:spPr>
      </p:pic>
      <p:sp>
        <p:nvSpPr>
          <p:cNvPr id="325" name="Obdélník 7"/>
          <p:cNvSpPr/>
          <p:nvPr/>
        </p:nvSpPr>
        <p:spPr>
          <a:xfrm>
            <a:off x="6084720" y="4724280"/>
            <a:ext cx="255456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Tuberkuló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orbel"/>
              </a:rPr>
              <a:t>http://upload.wikimedia.org/wikipedia/commons/9/9c/Tuberculosis-x-ray-1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Co je předmětem patologie?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 u="sng">
                <a:solidFill>
                  <a:srgbClr val="000000"/>
                </a:solidFill>
                <a:uFillTx/>
                <a:latin typeface="Corbel"/>
              </a:rPr>
              <a:t>Zkoumá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orbel"/>
              </a:rPr>
              <a:t>poškozené tkáně a orgány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orbel"/>
              </a:rPr>
              <a:t>jejich vztah k příznakům nemoci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orbel"/>
              </a:rPr>
              <a:t>příčiny onemocnění = </a:t>
            </a:r>
            <a:r>
              <a:rPr b="1" lang="cs-CZ" sz="3000" spc="-1" strike="noStrike">
                <a:solidFill>
                  <a:srgbClr val="000000"/>
                </a:solidFill>
                <a:latin typeface="Corbel"/>
              </a:rPr>
              <a:t>ETIOLOGIE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orbel"/>
              </a:rPr>
              <a:t>mechanismy vzniku a vývoje nemoci = </a:t>
            </a:r>
            <a:r>
              <a:rPr b="1" lang="cs-CZ" sz="3000" spc="-1" strike="noStrike">
                <a:solidFill>
                  <a:srgbClr val="000000"/>
                </a:solidFill>
                <a:latin typeface="Corbel"/>
              </a:rPr>
              <a:t>PATOGENEZE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orbel"/>
              </a:rPr>
              <a:t>morfologické změny buněk a tkání </a:t>
            </a:r>
            <a:r>
              <a:rPr b="1" lang="cs-CZ" sz="3000" spc="-1" strike="noStrike">
                <a:solidFill>
                  <a:srgbClr val="000000"/>
                </a:solidFill>
                <a:latin typeface="Corbel"/>
              </a:rPr>
              <a:t>= PATOANATOMIE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orbel"/>
              </a:rPr>
              <a:t>funkční změny = </a:t>
            </a:r>
            <a:r>
              <a:rPr b="1" lang="cs-CZ" sz="3000" spc="-1" strike="noStrike">
                <a:solidFill>
                  <a:srgbClr val="000000"/>
                </a:solidFill>
                <a:latin typeface="Corbel"/>
              </a:rPr>
              <a:t>PATOFYZIOLOGIE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Patologie obecná a speciální: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rbel"/>
              </a:rPr>
              <a:t>OBECNÁ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Popisuje základní patologické procesy v buňkách a tkáních (záněty, nádory…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rbel"/>
              </a:rPr>
              <a:t>SPECIÁLNÍ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Popisuje jednotlivé chorob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c800"/>
                </a:solidFill>
                <a:latin typeface="Corbel"/>
              </a:rPr>
              <a:t>Co je…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2000"/>
          </a:bodyPr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rbel"/>
              </a:rPr>
              <a:t>SYMPTOM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= příznak (např. horečka, bolest, otok, kašel…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rbel"/>
              </a:rPr>
              <a:t>SYNDROM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= soubor příznaků, které se typicky vyskytují společně (např. únava + horečka + bolest svalů a kloubů u chřipky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rbel"/>
              </a:rPr>
              <a:t>DIAGNÓZA</a:t>
            </a: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= rozpoznání, o jakou nemoc jd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rbel"/>
              </a:rPr>
              <a:t>(jak lékař pozná, co člověku je?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8T17:22:57Z</dcterms:created>
  <dc:creator>Veronika</dc:creator>
  <dc:description/>
  <dc:language>en-US</dc:language>
  <cp:lastModifiedBy>Chalupna</cp:lastModifiedBy>
  <dcterms:modified xsi:type="dcterms:W3CDTF">2014-03-27T21:28:04Z</dcterms:modified>
  <cp:revision>21</cp:revision>
  <dc:subject/>
  <dc:title>KLN 1</dc:title>
</cp:coreProperties>
</file>